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B7BD5-C694-4761-8E71-F60BA87CE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80920" y="39952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5DD95-644A-4A36-9A35-7A813ADC3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8092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360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392F7-03DE-4850-B79C-B0403EC83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0892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3656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88092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0892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3656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C53D4-E949-4930-9FA7-ED63CDFE5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F229D-B158-4438-9623-65BD718E0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88092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2BC0A-C5E2-4A22-ACE4-4873795B7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53CF9-FFA8-4B61-AD51-38FF25EC2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FC2EC-67D2-457F-8E9E-78D4B45D0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C68D8-54B6-4E67-BF5E-41B051993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E5885-0CFE-4EF8-BFAE-09FACCD00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8092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09EB5-897C-44A4-BDF3-A65AB9BA1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88092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1337D-514D-42E6-8A30-4B9B87D92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86360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75609-8F05-43BA-9464-2F9ED3FA6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80920" y="39952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D9B6A-B725-4105-BFA9-D7B29BD3D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880920" y="39952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685B6-AB59-4A43-993F-33A3080B6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88092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86360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2EDFA-357C-4FDB-8EDC-A78E38F71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50892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13656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88092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50892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13656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DA720-6213-4B4A-A98D-02A49AC2F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86B36-30D1-447A-B5E4-091F2E686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81027-03EC-4BA3-9DA7-6EA5CDE81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7EA02-6D42-4751-8F95-C1F3FA137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B576C-FF41-44ED-85CB-1AE21F337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88092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7D0E8-7841-47FC-9A35-8F520D7EA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360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96F08-404E-497C-BC73-F44DA6E23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880920" y="39952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885D0-1C7F-4189-A269-7EBEAF251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609480" cy="48769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8092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2782D-B5CC-43D6-85DC-57DB8CF827C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 txBox="1"/>
          <p:nvPr/>
        </p:nvSpPr>
        <p:spPr>
          <a:xfrm rot="5400000">
            <a:off x="-1998720" y="2286000"/>
            <a:ext cx="4608720" cy="287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e1"/>
                </a:solidFill>
                <a:latin typeface="Calibri"/>
              </a:rPr>
              <a:t>UŁAMKI ZWYKŁ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e1"/>
              </a:solidFill>
              <a:latin typeface="Calibri"/>
              <a:ea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5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47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1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73E3F-9A29-4BE7-8B2C-273898D070E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285920" y="2432160"/>
            <a:ext cx="7156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Verdana"/>
              </a:rPr>
              <a:t>POWTÓRZENIE WIADOMOŚC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95320" y="81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PRZYPOMNIENIE WIERSZYKA</a:t>
            </a:r>
            <a:br>
              <a:rPr sz="3000"/>
            </a:b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 I BUDOWY UŁAMK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46280" y="1133640"/>
            <a:ext cx="806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557360" y="1494000"/>
            <a:ext cx="4005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Jestem sobie kreską ułamkow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o dzielenia wciąż gotow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Licznik stoi nade mn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ianownik pode mn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542880" y="2708280"/>
            <a:ext cx="7809120" cy="1665000"/>
            <a:chOff x="542880" y="2708280"/>
            <a:chExt cx="7809120" cy="1665000"/>
          </a:xfrm>
        </p:grpSpPr>
        <mc:AlternateContent>
          <mc:Choice xmlns:a14="http://schemas.microsoft.com/office/drawing/2010/main" Requires="a14">
            <p:sp>
              <p:nvSpPr>
                <p:cNvPr id="100" name=""/>
                <p:cNvSpPr txBox="1"/>
                <p:nvPr/>
              </p:nvSpPr>
              <p:spPr>
                <a:xfrm>
                  <a:off x="4165560" y="2708280"/>
                  <a:ext cx="1036800" cy="1665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6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5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01" name=""/>
            <p:cNvSpPr/>
            <p:nvPr/>
          </p:nvSpPr>
          <p:spPr>
            <a:xfrm>
              <a:off x="5697360" y="2933640"/>
              <a:ext cx="2114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licznik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ułamka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695920" y="3743280"/>
              <a:ext cx="265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mianownik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ułamk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2880" y="3292200"/>
              <a:ext cx="34894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kreska ułamkowa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zastępująca znak dzieleni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065560" y="3157560"/>
              <a:ext cx="586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157720" y="3968640"/>
              <a:ext cx="495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446640" y="3608280"/>
              <a:ext cx="585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"/>
          <p:cNvSpPr/>
          <p:nvPr/>
        </p:nvSpPr>
        <p:spPr>
          <a:xfrm>
            <a:off x="1557360" y="4508640"/>
            <a:ext cx="711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Mianownik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wskazuje na ile części została podzielona całoś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Licznik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ówi nam, ile części wyróżnio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Kresk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ułamkowa zastępuje dzielen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Ułamek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jest inną formą zapisania dzielen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446640" y="590400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łame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4532400" y="5815080"/>
                <a:ext cx="1434960" cy="5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95320" y="81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SKRACANIE I ROZSZERZANIE UŁAMK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46280" y="954000"/>
            <a:ext cx="806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36640" y="1133640"/>
            <a:ext cx="805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 Aby skrócić ułamek należy licznik i mianownik ułamka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podzielić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zez 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tą samą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liczb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062000" y="3732120"/>
            <a:ext cx="783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 Aby rozszerzyć ułamek należy jego licznik i mianownik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omnożyć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zez 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tą samą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liczb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2681280" y="1989000"/>
                <a:ext cx="3838680" cy="148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t xml:space="preserve">:</m:t>
                        </m:r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:</m:t>
                        </m:r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2951280" y="4597560"/>
                <a:ext cx="3405240" cy="148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⋅</m:t>
                        </m:r>
                        <m:r>
                          <m:t xml:space="preserve">9</m:t>
                        </m:r>
                      </m:num>
                      <m:den>
                        <m:r>
                          <m:t xml:space="preserve">7</m:t>
                        </m:r>
                        <m:r>
                          <m:t xml:space="preserve">⋅</m:t>
                        </m:r>
                        <m:r>
                          <m:t xml:space="preserve">9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95320" y="81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UŁAMKI WŁAŚCIWE, UŁAMKI NIEWŁAŚCIWE I LICZBY MIESZ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46280" y="1133640"/>
            <a:ext cx="806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557360" y="1576440"/>
            <a:ext cx="697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Ułamki właściwe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mają licznik mniejszy od mianowni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557360" y="3159000"/>
            <a:ext cx="66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Ułamki niewłaściwe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mają licznik większy od mianowni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557360" y="4592520"/>
            <a:ext cx="733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Liczby mieszane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zbudowana jest z liczby naturalnej i ułam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3672000" y="3567240"/>
                <a:ext cx="2147760" cy="103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 </m:t>
                    </m:r>
                    <m:r>
                      <m:t xml:space="preserve">;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 </m:t>
                    </m:r>
                    <m:r>
                      <m:t xml:space="preserve">;</m:t>
                    </m:r>
                    <m:r>
                      <m:t xml:space="preserve">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  <m:r>
                      <m:t xml:space="preserve"> </m:t>
                    </m:r>
                    <m:r>
                      <m:t xml:space="preserve">;</m:t>
                    </m:r>
                    <m:r>
                      <m:t xml:space="preserve">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5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044880" y="5072040"/>
                <a:ext cx="3462120" cy="103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 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3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 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 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102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7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672000" y="2035080"/>
                <a:ext cx="2182680" cy="103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;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;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den>
                    </m:f>
                    <m:r>
                      <m:t xml:space="preserve">;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9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4842000" y="5668920"/>
            <a:ext cx="2116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 większym iloczynie szukamy licznika ułamk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95320" y="81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PORÓWNYWANIE UŁAMKÓ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46280" y="954000"/>
            <a:ext cx="806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27000" y="1179360"/>
            <a:ext cx="65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 Porównywanie ułamków o jednakowych licznik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106640" y="2754360"/>
            <a:ext cx="66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 Porównywanie ułamków o jednakowych mianownik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62000" y="4183200"/>
            <a:ext cx="634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 Porównywanie ułamków o różnych mianownikach – metoda mnożenia „na krzyż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557360" y="1752480"/>
            <a:ext cx="54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Z dwóch ułamków o tych samych licznikach </a:t>
            </a: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większy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jest ten, który ma </a:t>
            </a: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mniejszy mianowni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646280" y="3249720"/>
            <a:ext cx="562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Z dwóch ułamków o jednakowych mianownikach </a:t>
            </a: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większy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jest ten, który ma </a:t>
            </a: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większy liczni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6686640" y="1898640"/>
                <a:ext cx="67932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&lt;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3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6642000" y="3519360"/>
                <a:ext cx="63036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t xml:space="preserve">&gt;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5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7767720" y="5443560"/>
                <a:ext cx="765000" cy="55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  <m:r>
                      <m:t xml:space="preserve">&lt;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47" name=""/>
          <p:cNvGrpSpPr/>
          <p:nvPr/>
        </p:nvGrpSpPr>
        <p:grpSpPr>
          <a:xfrm>
            <a:off x="1512720" y="5138640"/>
            <a:ext cx="1753920" cy="990360"/>
            <a:chOff x="1512720" y="5138640"/>
            <a:chExt cx="1753920" cy="990360"/>
          </a:xfrm>
        </p:grpSpPr>
        <mc:AlternateContent>
          <mc:Choice xmlns:a14="http://schemas.microsoft.com/office/drawing/2010/main" Requires="a14">
            <p:sp>
              <p:nvSpPr>
                <p:cNvPr id="148" name=""/>
                <p:cNvSpPr txBox="1"/>
                <p:nvPr/>
              </p:nvSpPr>
              <p:spPr>
                <a:xfrm>
                  <a:off x="2777040" y="5138640"/>
                  <a:ext cx="489600" cy="990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9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5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9" name=""/>
                <p:cNvSpPr txBox="1"/>
                <p:nvPr/>
              </p:nvSpPr>
              <p:spPr>
                <a:xfrm>
                  <a:off x="1512720" y="5138640"/>
                  <a:ext cx="551520" cy="990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6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2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50" name=""/>
            <p:cNvSpPr/>
            <p:nvPr/>
          </p:nvSpPr>
          <p:spPr>
            <a:xfrm flipV="1">
              <a:off x="2064240" y="5400360"/>
              <a:ext cx="800640" cy="46872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64240" y="5400360"/>
              <a:ext cx="751320" cy="5220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"/>
          <p:cNvSpPr/>
          <p:nvPr/>
        </p:nvSpPr>
        <p:spPr>
          <a:xfrm>
            <a:off x="3851280" y="5094360"/>
            <a:ext cx="207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9 · 22 = 15 · 16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98 = 240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98 &lt; 240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852720" y="6308640"/>
            <a:ext cx="184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9 · 22 = 15 ·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958080" y="5533920"/>
            <a:ext cx="9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ą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895320" y="81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DODAWANIE I ODEJMOWANIE UŁAMKÓW ZWYKŁY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01640" y="1089000"/>
            <a:ext cx="806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062000" y="1538280"/>
            <a:ext cx="765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Dodawani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– aby dodać ułamki o tych samych mianownikach dodajemy liczniki, a mianownik pozostaje bez zm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150920" y="369900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Odejmowani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– aby odjąć ułamki o tych samych mianownikach odejmujemy liczniki, a mianownik pozostaje bez zm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3132000" y="2347920"/>
                <a:ext cx="3060720" cy="108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7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8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2997360" y="4527720"/>
                <a:ext cx="3419280" cy="106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895320" y="81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ZAKOŃCZENI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46280" y="954000"/>
            <a:ext cx="806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557360" y="2079720"/>
            <a:ext cx="5129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 już koniec przygody z ułamka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potkamy się, gdy będziecie piątaka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Jeszcze więcej się dowiec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 i tak już dużo umiec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5292720" y="3203640"/>
            <a:ext cx="2087640" cy="2087640"/>
            <a:chOff x="5292720" y="3203640"/>
            <a:chExt cx="2087640" cy="2087640"/>
          </a:xfrm>
        </p:grpSpPr>
        <p:graphicFrame>
          <p:nvGraphicFramePr>
            <p:cNvPr id="174" name=""/>
            <p:cNvGraphicFramePr/>
            <p:nvPr/>
          </p:nvGraphicFramePr>
          <p:xfrm>
            <a:off x="6188040" y="3203640"/>
            <a:ext cx="1192320" cy="20876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7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188040" y="3203640"/>
                      <a:ext cx="1192320" cy="2087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176" name="" descr=""/>
            <p:cNvPicPr/>
            <p:nvPr/>
          </p:nvPicPr>
          <p:blipFill>
            <a:blip r:embed="rId3"/>
            <a:stretch/>
          </p:blipFill>
          <p:spPr>
            <a:xfrm>
              <a:off x="5292720" y="3564000"/>
              <a:ext cx="990720" cy="7336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11T19:53:09Z</dcterms:created>
  <dc:creator>Darek</dc:creator>
  <dc:description/>
  <dc:language>en-US</dc:language>
  <cp:lastModifiedBy>Darek</cp:lastModifiedBy>
  <dcterms:modified xsi:type="dcterms:W3CDTF">2013-08-17T21:11:54Z</dcterms:modified>
  <cp:revision>57</cp:revision>
  <dc:subject/>
  <dc:title>Slajd 1</dc:title>
</cp:coreProperties>
</file>